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E48-9B1B-4A0F-966E-B99F0D4E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767-A00C-43AF-8A1D-FBA33EA4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506-7AD1-4AF4-B161-978A8D81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D0B-C338-4BFB-A2CB-45AA2BBD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54B-9211-4F1B-8F6C-B2424761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6DA-9B1C-4355-B532-ABEC1DD8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01B-9566-40C7-831E-46EA799D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6AD-1886-4E8E-BFBC-DC4DE0DB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28C-14C6-44AF-8B01-0BA50973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DF2-A7DA-4922-A99C-2EA24E50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6B4-3C64-4369-859A-C78271C4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277-4C4B-4195-BDD8-A8195181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7A94-7217-4665-9909-DFB9CA23A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People Who Help U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e a tally chart of the people you s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2054160" cy="273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2000160" cy="2664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64000" y="2924280"/>
            <a:ext cx="2233440" cy="297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92720" y="3068640"/>
            <a:ext cx="2111400" cy="281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659640" y="2781360"/>
            <a:ext cx="22334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273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id you watch carefull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postmen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policemen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w many vets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w many firemen did you see?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doctors did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59640" y="4941720"/>
            <a:ext cx="485640" cy="646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732720" y="836640"/>
            <a:ext cx="811080" cy="107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04000" y="2133720"/>
            <a:ext cx="665280" cy="885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012000" y="2924280"/>
            <a:ext cx="544320" cy="723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443640" y="3860640"/>
            <a:ext cx="6652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Watch carefully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20:55Z</dcterms:created>
  <dc:creator>TEACHER</dc:creator>
  <dc:description/>
  <dc:language>en-US</dc:language>
  <cp:lastModifiedBy>Staff</cp:lastModifiedBy>
  <dcterms:modified xsi:type="dcterms:W3CDTF">2007-01-17T07:41:28Z</dcterms:modified>
  <cp:revision>1</cp:revision>
  <dc:subject/>
  <dc:title>People Who Help Us!</dc:title>
</cp:coreProperties>
</file>