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84A4-9573-448E-A6E5-C440F1155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0A6A-D55A-45B4-A421-1C96FF4D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D696-7D62-4D93-B82F-4AE3B8449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FEE5-E9D3-4986-8283-A0F7A3D25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DC68-2B59-45F7-B755-F3480960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9569-D061-439F-8F94-256097C9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09CC-4EB2-4215-9D07-EEB7B0DA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91A7-917C-4E15-8E33-11823858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485E-AA37-44AE-8442-C6F63011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3CEE-D3BB-43FB-A016-440CF217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B731-BEEC-45AE-9395-FAECF05D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FAB5-D9D5-4AEC-82F0-D7C61999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F6C8-3CBD-491D-A7D3-801A49283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Make a tally chart to record the different coloured cars!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1597 0.00833 L 2.5E-006 -2.45143E-006 E">
                                      <p:cBhvr>
                                        <p:cTn id="76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45143E-006 L 1.20486 0.01874 E">
                                      <p:cBhvr>
                                        <p:cTn id="80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58920" y="476280"/>
            <a:ext cx="691344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9792 -0.00092 L 5E-006 -1.11111E-006 E">
                                      <p:cBhvr>
                                        <p:cTn id="86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79371E-006 L -0.9606 -0.01133 E">
                                      <p:cBhvr>
                                        <p:cTn id="90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7921440" cy="63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75 -0.01688 L -1.11111E-006 -4.04624E-007 E">
                                      <p:cBhvr>
                                        <p:cTn id="96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81481E-006 L 0.97656 0.00416 E">
                                      <p:cBhvr>
                                        <p:cTn id="100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1597 0.00833 L 2.5E-006 -2.45143E-006 E">
                                      <p:cBhvr>
                                        <p:cTn id="10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45143E-006 L 1.20486 0.01874 E">
                                      <p:cBhvr>
                                        <p:cTn id="110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7921440" cy="63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75 -0.01688 L -1.11111E-006 -4.04624E-007 E">
                                      <p:cBhvr>
                                        <p:cTn id="116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81481E-006 L 0.97656 0.00416 E">
                                      <p:cBhvr>
                                        <p:cTn id="120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32000" y="-316080"/>
            <a:ext cx="655308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908 -0.04325 L -3.05556E-006 3.27475E-006 E">
                                      <p:cBhvr>
                                        <p:cTn id="12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6.93802E-007 L 0.84271 -6.93802E-007 E">
                                      <p:cBhvr>
                                        <p:cTn id="13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1597 0.00833 L 2.5E-006 -2.45143E-006 E">
                                      <p:cBhvr>
                                        <p:cTn id="136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45143E-006 L 1.20486 0.01874 E">
                                      <p:cBhvr>
                                        <p:cTn id="140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7921440" cy="63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75 -0.01688 L -1.11111E-006 -4.04624E-007 E">
                                      <p:cBhvr>
                                        <p:cTn id="14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81481E-006 L 0.97656 0.00416 E">
                                      <p:cBhvr>
                                        <p:cTn id="150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58920" y="476280"/>
            <a:ext cx="691344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9792 -0.00092 L 5E-006 -1.11111E-006 E">
                                      <p:cBhvr>
                                        <p:cTn id="15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79371E-006 L -0.9606 -0.01133 E">
                                      <p:cBhvr>
                                        <p:cTn id="160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1597 0.00833 L 2.5E-006 -2.45143E-006 E">
                                      <p:cBhvr>
                                        <p:cTn id="166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45143E-006 L 1.20486 0.01874 E">
                                      <p:cBhvr>
                                        <p:cTn id="170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Watch carefully!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Count how many of each colour car you saw!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41672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04 0.00301 L 4.44444E-006 -2.22222E-006 E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34875E-006 L 1.41354 0.00301 E">
                                      <p:cBhvr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1597 0.00833 L 2.5E-006 -2.45143E-006 E">
                                      <p:cBhvr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45143E-006 L 1.20486 0.01874 E">
                                      <p:cBhvr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58920" y="476280"/>
            <a:ext cx="691344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9792 -0.00092 L 5E-006 -1.11111E-006 E">
                                      <p:cBhvr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79371E-006 L -0.9606 -0.01133 E">
                                      <p:cBhvr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7921440" cy="63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75 -0.01688 L -1.11111E-006 -4.04624E-007 E">
                                      <p:cBhvr>
                                        <p:cTn id="3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81481E-006 L 0.97656 0.00416 E">
                                      <p:cBhvr>
                                        <p:cTn id="40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1597 0.00833 L 2.5E-006 -2.45143E-006 E">
                                      <p:cBhvr>
                                        <p:cTn id="46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45143E-006 L 1.20486 0.01874 E">
                                      <p:cBhvr>
                                        <p:cTn id="50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41672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04 0.00301 L 4.44444E-006 -2.22222E-006 E">
                                      <p:cBhvr>
                                        <p:cTn id="5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34875E-006 L 1.41354 0.00301 E">
                                      <p:cBhvr>
                                        <p:cTn id="60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7921440" cy="63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75 -0.01688 L -1.11111E-006 -4.04624E-007 E">
                                      <p:cBhvr>
                                        <p:cTn id="66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81481E-006 L 0.97656 0.00416 E">
                                      <p:cBhvr>
                                        <p:cTn id="70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17:15:01Z</dcterms:created>
  <dc:creator>TEACHER</dc:creator>
  <dc:description/>
  <dc:language>en-US</dc:language>
  <cp:lastModifiedBy>TEACHER</cp:lastModifiedBy>
  <dcterms:modified xsi:type="dcterms:W3CDTF">2008-02-05T17:26:09Z</dcterms:modified>
  <cp:revision>9</cp:revision>
  <dc:subject/>
  <dc:title>Slide 1</dc:title>
</cp:coreProperties>
</file>